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gif" ContentType="image/gif"/>
  <Override PartName="/ppt/media/image7.gif" ContentType="image/gif"/>
  <Override PartName="/ppt/media/image6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9592-C37E-4518-B5AD-0C2749FB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428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B840-F442-4E44-9CAC-B58E8E41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16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D672-3799-47A5-AD39-FC0759D52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84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440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84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440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758E-57D3-4B04-97CB-FCD5ABAF0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52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EECB-5E96-43ED-A231-9886F886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96E2-F026-4B21-A02C-8415A1D7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438A-6421-4002-B886-969D4305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6DCB-3EE2-462B-8EF4-D8F4C37E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8892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F747-3087-403D-9376-37E720C0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F6F1-4A41-47A6-B8CA-81789EC4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16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B1CF-374A-4282-9ED2-B0AFAB61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656B-76B3-4397-A8FD-5CF0373A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BEC1A85-13AA-4EBC-A2B5-3B64CD221CD9}" type="slidenum">
              <a:rPr b="0" lang="en-GB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52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SzPct val="105276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611280" y="0"/>
            <a:ext cx="85327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2"/>
          <p:cNvSpPr txBox="1"/>
          <p:nvPr/>
        </p:nvSpPr>
        <p:spPr>
          <a:xfrm>
            <a:off x="971640" y="476280"/>
            <a:ext cx="7848360" cy="26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жары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482400"/>
                </a:solidFill>
                <a:latin typeface="Times New Roman"/>
              </a:rPr>
              <a:t>Пожар в здании.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66880"/>
            <a:ext cx="8069040" cy="50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349"/>
              </a:spcBef>
              <a:buSzPct val="274907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ожар,  охвативший  здание,  не  затрагивает  напрямую  вашу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ртиру, вам надо предпринять следующие обязательные действия: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пытаться бежать по лестницам,  тем более, использоват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фт,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й   может   остановиться   в   любой   момент  из-за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я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энергии;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крыть окна, но не опускать жалюзи;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кнуть все зазоры под дверьми мокрыми тряпками;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ключить электричество и перекрыть газ;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отовить комнату как "последнее убежище“ ;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полнить водой ванну и другие большие емкости;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ять  занавески,  так  как стекла под воздействием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а могут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снуть и огонь легко найдет на что переключиться;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одвинуть от окон все предметы, которые могут загореться;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ть пол и двери водой, понизив таким образом их температуру;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 нельзя  использовать  лестницы,  и  единственным  путем к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ению может  оказатьс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но, нужно  попытаться  сократить  высоту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ыжка,  связав  простыни;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жде чем  прыгнуть,  нужно  бросить  вниз  матрасы,  подушки,ковры, чтобы смягчить падение;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сли   вы  живете  на  нижних  этажах,  то  можете  спуститься,используя балконы.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>
            <a:off x="5867280" y="2209680"/>
            <a:ext cx="2971800" cy="2286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482400"/>
                </a:solidFill>
                <a:latin typeface="Times New Roman"/>
              </a:rPr>
              <a:t>Пожар в небоскребе.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993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00"/>
              </a:spcBef>
              <a:buSzPct val="23573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 в небоскребе очень опасен.  Он может охватить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ание внутри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ьше че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час.  В этом случае из-за огромного  количества  горящих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ов   пожар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т  сопровождаться  большим  количеством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ма,который  заполняет  этаж,  а  потом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пространяется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ее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рх,создавая  серьезную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сность  для людей,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дящихся внутри зда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 пути эвакуации блокированы  огнем,  нужн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ть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ытия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ных, которые помогу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 покинуть здание. Пожар, охвативший значи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ьную площадь, обуславливает и  большое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 задействованных средств.  В некотор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ях для спасения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ей используютс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толеты   и   другие   средства эвакуаци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отушения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шком  часто  приходиться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ышать  о  людях,которые,  становясь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ртво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жаса, выпрыгивают из окон, пытаясь таким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м избежать нависшей опасности. 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ьбе  с пожаром  особенно  важна  быстрая  реакция на него впервые минуты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6012000" y="2637000"/>
            <a:ext cx="2916000" cy="29127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482400"/>
                </a:solidFill>
                <a:latin typeface="Times New Roman"/>
              </a:rPr>
              <a:t>Лесные пожары.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5640" y="1841040"/>
            <a:ext cx="776916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349"/>
              </a:spcBef>
              <a:buSzPct val="235396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иственных  лесах  обычно  возникают  низовые  пожары.   Высота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мени  при  таких  пожарах  2-2,5  метра,  температура  - 400-900°С,скорость распространения - 0,3-1 км/ч.  В хвойных лесах чаще возникают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ховые пожары,  при этом температура достигает 1100°С,  а скорость -2-3  км/ч  в безветрие и 20-25 км/ч при ветре.  Из-за высокой скорости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я огня убежать от верхового пожара очень трудно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</a:t>
            </a:r>
            <a:r>
              <a:rPr b="1" lang="en-GB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изнак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и</a:t>
            </a:r>
            <a:r>
              <a:rPr b="1" lang="en-GB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пожара: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ойчивый запах гари;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ман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ный дым;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покойство птиц и животных, и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грация в одну сторону;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ной перелет птиц, громкие крики;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ное зарево;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блески зарева на ночных низких облаках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Чаще всего лесные пожары возникают:</a:t>
            </a:r>
            <a:r>
              <a:rPr b="0" lang="en-GB" sz="1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ине людей,  оставляющих непотуш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тры  или  окурки  в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ах отдыха;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ледствие игры детей с огнем;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жигание мусора  владельцами  дач  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овых  участков  на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ушках лес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р молнии;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возгорание торфяника.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1"/>
          <a:stretch/>
        </p:blipFill>
        <p:spPr>
          <a:xfrm>
            <a:off x="5715000" y="2895480"/>
            <a:ext cx="2781360" cy="1676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12"/>
          <a:stretch/>
        </p:blipFill>
        <p:spPr>
          <a:xfrm>
            <a:off x="5715000" y="4876920"/>
            <a:ext cx="2743200" cy="16761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482400"/>
                </a:solidFill>
                <a:latin typeface="Times New Roman"/>
              </a:rPr>
              <a:t>Советы по предупреждению           пожаров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326"/>
              </a:spcBef>
              <a:buSzPct val="25303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ите  всех  членов семьи простейшим способам тушения пожар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326"/>
              </a:spcBef>
              <a:buSzPct val="205927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йте  запас  средств  пожаротушения:  огнетушители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ок,топоры, накидки, швабры и т.д.;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326"/>
              </a:spcBef>
              <a:buSzPct val="205927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 в  коем  случае  не  складируйте  баллоны с газо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горючие жидкости на чердаке или в подвале;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326"/>
              </a:spcBef>
              <a:buSzPct val="205927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ходите с зажженной  сигаретой  в  помещение,  где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ятся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зовые баллоны или горючие жидкости;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ложитесь спать с зажженной сигаретой;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 ставьте  газовые  нагревательные колонки 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роветриваемых помещениях;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ревательное   оборудование   должны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авлива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ы;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326"/>
              </a:spcBef>
              <a:buSzPct val="205927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дну розетку не втыкайте более  двух  вилок,  чтобы  избежать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грева   электропроводки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326"/>
              </a:spcBef>
              <a:buSzPct val="205927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те,  что попадание воды в электрические сети  может  стать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ой  короткого замыкания,  которое может привести к возникновению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а;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326"/>
              </a:spcBef>
              <a:buSzPct val="205927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уясь   свечами,   изолируйте   их   от  стола  огнестойким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ом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8"/>
          <a:stretch/>
        </p:blipFill>
        <p:spPr>
          <a:xfrm>
            <a:off x="6443640" y="2276640"/>
            <a:ext cx="2438280" cy="26668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0000" y="980640"/>
            <a:ext cx="77709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482400"/>
                </a:solidFill>
                <a:latin typeface="Times New Roman"/>
              </a:rPr>
              <a:t>Подводя итог, хочется сказать, чтобы нашей жизни не угрожали пожары, необходимо соблюдать правила пожарной и личной безопасности. 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482400"/>
                </a:solidFill>
                <a:latin typeface="Times New Roman"/>
              </a:rPr>
              <a:t>Цель работы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64508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презент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крыта тема «Стихийные бедствия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примере пожаро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жары в зданиях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жары в небоскребах, лесные пожар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т.п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выполнении работы пользовалис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струкцией по технике безопас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" descr="post-14099-1174309272"/>
          <p:cNvPicPr/>
          <p:nvPr/>
        </p:nvPicPr>
        <p:blipFill>
          <a:blip r:embed="rId2"/>
          <a:stretch/>
        </p:blipFill>
        <p:spPr>
          <a:xfrm>
            <a:off x="5867280" y="1844640"/>
            <a:ext cx="3097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1042920" y="2492280"/>
            <a:ext cx="7775640" cy="20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КАК  ПРЕДОТВРАТИТ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ПОЖАР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5"/>
          <a:stretch/>
        </p:blipFill>
        <p:spPr>
          <a:xfrm>
            <a:off x="611280" y="5084640"/>
            <a:ext cx="85327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482400"/>
                </a:solidFill>
                <a:latin typeface="Times New Roman"/>
              </a:rPr>
              <a:t>Содержание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ожа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extBook"/>
                <a:ea typeface="Times New Roman"/>
              </a:rPr>
              <a:t>Опасные факторы пожара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SzPct val="11726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Действия при бытовом пожар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SzPct val="11726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ация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SzPct val="11726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ожарные средств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 в здан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SzPct val="11726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ожар в небоскреб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SzPct val="117264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ные пожары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SzPct val="117264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ы по предупреждению пожар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0"/>
          <a:stretch/>
        </p:blipFill>
        <p:spPr>
          <a:xfrm>
            <a:off x="6300720" y="3716280"/>
            <a:ext cx="2538360" cy="21970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25560" y="190800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374"/>
              </a:spcBef>
              <a:buSzPct val="21928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жар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 огонь,  вышедший  из-под контроля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а.  Для того, чтобы пожар начался, должны совпасть три условия:1.наличие  горючего материала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количества  кислорода  для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ания  горения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3. зажигание  от  источника  тепла.   Достаточно исключить одно из этих условий и возгорание не состоится.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2880" y="1766880"/>
            <a:ext cx="419112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374"/>
              </a:spcBef>
              <a:buSzPct val="14911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чины возникновения пожара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374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ение в постели и запрещенных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ах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374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бензина для зажигания   печки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374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тка одежды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аряющимися  веществам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374"/>
              </a:spcBef>
              <a:buSzPct val="100000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вленные утюги или любые другие приборы  под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яжением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374"/>
              </a:spcBef>
              <a:buSzPct val="100000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мага или абажуры, находящиеся слишком близко к горячей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мпочкеи т.д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8"/>
          <a:stretch/>
        </p:blipFill>
        <p:spPr>
          <a:xfrm>
            <a:off x="990720" y="304920"/>
            <a:ext cx="7829280" cy="12189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2438280" y="609480"/>
            <a:ext cx="466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fd6c3"/>
                </a:solidFill>
                <a:latin typeface="Times New Roman"/>
              </a:rPr>
              <a:t>         </a:t>
            </a:r>
            <a:r>
              <a:rPr b="1" lang="en-GB" sz="4000" spc="-1" strike="noStrike">
                <a:solidFill>
                  <a:srgbClr val="ffdb03"/>
                </a:solidFill>
                <a:latin typeface="Times New Roman"/>
              </a:rPr>
              <a:t>Пожар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482400"/>
                </a:solidFill>
                <a:latin typeface="Times New Roman"/>
              </a:rPr>
              <a:t>Основные факторы пожара</a:t>
            </a:r>
            <a:r>
              <a:rPr b="0" lang="en-GB" sz="4400" spc="-1" strike="noStrike">
                <a:solidFill>
                  <a:srgbClr val="4824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808440" cy="61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ое пламя и искр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ышенная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окружающей среды и предмет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ые продукты гор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женная концентрация кислород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ающие части строительных конструкц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зрыве - ударная волна; разлетающиеся части и вредные вещества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8"/>
          <a:stretch/>
        </p:blipFill>
        <p:spPr>
          <a:xfrm>
            <a:off x="5257800" y="2133720"/>
            <a:ext cx="3352680" cy="39621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482400"/>
                </a:solidFill>
                <a:latin typeface="Times New Roman"/>
              </a:rPr>
              <a:t>Действия при бытовом пожаре</a:t>
            </a:r>
            <a:r>
              <a:rPr b="0" lang="en-GB" sz="4000" spc="-1" strike="noStrike">
                <a:solidFill>
                  <a:srgbClr val="4824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4424400" cy="50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326"/>
              </a:spcBef>
              <a:buSzPct val="235396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уйте спокойно и рассудительно, не поддавайтесь паник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326"/>
              </a:spcBef>
              <a:buSzPct val="253293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ите пожарную службу, четко сообщите ей свой адрес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326"/>
              </a:spcBef>
              <a:buSzPct val="253293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лючите газ и электричеств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326"/>
              </a:spcBef>
              <a:buSzPct val="253293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йте доступные средства пожар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ше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326"/>
              </a:spcBef>
              <a:buSzPct val="253293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гда не пытайтесь погасить горящие нефтепродукты водой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326"/>
              </a:spcBef>
              <a:buSzPct val="253293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горит электрооборудование, отключите его от источников пита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326"/>
              </a:spcBef>
              <a:buSzPct val="253293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иньте здани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326"/>
              </a:spcBef>
              <a:buSzPct val="253293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ытайтесь спасти людей и животных, подвергшихся опасност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326"/>
              </a:spcBef>
              <a:buSzPct val="253293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лестничные клетки и коридоры задымлены, оставайтесь в квартире, закройте двери и окна, чтобы не допустить сквозняк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326"/>
              </a:spcBef>
              <a:buSzPct val="253293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в задымленном месте, держитесь ближе к полу - там есть полоса чистого воздух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326"/>
              </a:spcBef>
              <a:buSzPct val="253293"/>
              <a:buBlip>
                <a:blip r:embed="rId1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гайте риска оказаться в огненной ловушке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2"/>
          <a:stretch/>
        </p:blipFill>
        <p:spPr>
          <a:xfrm>
            <a:off x="5486400" y="2286000"/>
            <a:ext cx="3429000" cy="37339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482400"/>
                </a:solidFill>
                <a:latin typeface="Times New Roman"/>
              </a:rPr>
              <a:t>Эвакуация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50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51"/>
              </a:spcBef>
              <a:buSzPct val="235396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ую  очередь  необходимо  установить,  как  и в каком порядке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а   происходить   эвакуация   людей   и   имущества   и    место,предназначенное  для сбора вещей.  Разумеется,  главной целью является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ение человеческой жизни и все остальное должно строиться  на  этой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ции.     Все общественные  и  производственные   помещения   должны   быть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бжены  аварийными  выходами,  отчетливо  обозначенными,  не слишком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ными,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антирующими быстрый, без затруднений, проход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22360" y="1766520"/>
            <a:ext cx="3808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349"/>
              </a:spcBef>
              <a:buSzPct val="13678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человек   должен  знать,  каким  образом  быстро  покинуть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ещение при возникновении пожара.  Для этого  надо  проводить  общие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е учения во всех организациях, учреждениях и предприятиях.     Во время тушения пожара и спасения людей необходимо помнить,  что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чаще всего в состоянии привлечь к себе внимание, дать знать о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м присутствии.  Если они застигнуты врасплох огнем или дымом и  от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го  теряют  сознание,  то  искать  их  нужно,  в основном,  рядом с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тницей,  у окон или других возможных выходов. Больные люди, которые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 состоянии двигаться,  могут находиться в кроватях, на стульях или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дом с ними.  Большие сложности  возникают  при  поисках  на  пожарах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.  Обычно они укрываются в местах, которые взрослым не приходят в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ову, поэтому с их обнаружением и спасением часто опаздывают.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3"/>
          <a:stretch/>
        </p:blipFill>
        <p:spPr>
          <a:xfrm>
            <a:off x="1403280" y="5157720"/>
            <a:ext cx="2362320" cy="17002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7964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482400"/>
                </a:solidFill>
                <a:latin typeface="Times New Roman"/>
              </a:rPr>
              <a:t>Противопожарные средства.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50480" y="1619280"/>
            <a:ext cx="38084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00"/>
              </a:spcBef>
              <a:buSzPct val="13678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 ним относятся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гидранты, огнетушители, средства покрытия огня,песок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традиционным  средством для тушения пожаров  является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дрант,  который устанавливается внутри всех общественных зданий. Он должен находиться в легкодоступных  местах  и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  быть  готовым  к  использованию. Принцип  действия  гидрант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ается в подаче больших объемов воды, предназначенной для тушения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ов,  когда  горят  обычные  материалы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5257800" y="1905120"/>
            <a:ext cx="3429000" cy="47242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bster</cp:lastModifiedBy>
  <dcterms:modified xsi:type="dcterms:W3CDTF">2010-06-02T18:49:50Z</dcterms:modified>
  <cp:revision>6</cp:revision>
  <dc:subject/>
  <dc:title>Слайд 1</dc:title>
</cp:coreProperties>
</file>